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1C42F-789D-44A2-A123-1625342CE539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A320-FF69-4EF0-805E-5032328B1E4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355E7-A1D9-42DF-BAFF-147E4942379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F6989-D1F2-4262-92AF-4BF138444A9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638AC-B7BF-4A87-9605-720DA43EB511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0D303-98D8-4080-BB8E-615239D3423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1D86D-C67D-46F5-8E14-ABDC6C8FAD1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741BA-4882-4E98-9C08-46B4B2E92EF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B06B1-2E35-4D2D-B5F3-B749144503B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B69F6-7E7F-4299-8EBD-3EF65945A03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BA99C-A21B-4242-8BD3-3D90CFE1C71A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CCC09-3CE2-46E3-B084-47C784EA0C8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CF372-B034-4748-8EC7-D5BBEB0E6B2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84D0-BB1C-4155-9868-F2B5D043D601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CDCCB-0FFB-4C50-B3C6-F0852744472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FAFE-5166-4F05-991A-206B09B00B94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06FD-5620-4B1C-B276-4D277754B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F52E-63EB-4CFA-9D1F-F551DDF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B481-7F5B-41AF-BAB5-10B2FD0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DF07-F409-40A3-AE2D-B4EAED7E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93D4-FF1C-427B-9135-48B748A8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204D-DF67-4D61-973F-AC5DE8E0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A3CB-245E-4819-A888-BAE08F9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6354-5856-4DD8-A10D-A88F2A13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E394D-2975-460F-B2A2-68782E4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117B-9670-49E4-A41F-1449998E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81FE-BE0B-4ED3-AA57-0C0D63E69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4ECAC-923B-4313-9BE7-FB761781C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9264-331E-48B8-A28A-EABABD4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EF1A7-2185-43F3-BA6C-0B478913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36D22-29FF-40F2-BC83-58F573BF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F8813-55AD-4987-9F89-99F1CE6C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1B883-D61D-49AE-89FF-D86C9E53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36273-CD01-49C5-A4BE-280F78A3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95D1E-E2FD-4091-A876-AD1C880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7618B-7907-4EF7-AB8F-F1B5D84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6AC63-9D1D-41E6-B4D5-F8E4DB0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D6D9A-A434-4A40-8084-B8FF34DC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5CB36-85BD-47A8-8E02-9799019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8A55-61FB-4F56-9504-BFE03E906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DB627-D08D-4B6D-B55A-A824A5099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461BFD-73C8-4286-BDE6-A0D5EC383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EE3B4-8750-4299-905B-6DFAB2A3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C6A445-F05C-435A-A3D9-6B5CD12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00A996-F856-4F5F-B56E-2DC288B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B366E4-35F2-42DB-9C49-F2B1F13A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46C21D-6A61-4C36-A9D8-E32F85AC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9BFC9-0C82-49A1-A315-FC0F62D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91FAF-8B3A-44FA-9A8A-ABD2DF86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1508F-9942-4E3B-BE50-83286F55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D509F-7B89-4921-BB8C-4AD8C524C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01083-407F-4884-A880-2D456EDC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44156-9972-42C3-B880-79BAB6E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87E95-FF44-440C-A3F9-B27C2D6EF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01E2-4FBB-4423-B440-FF555C8EC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ED9EA-6BDB-491A-9C33-449ACBF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337B-AECB-40C4-B4EB-AFB750CD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2AA64-067A-4061-A025-8770E79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B831-F473-411A-A7D6-1E2FDF7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215E3-157C-45A4-B55E-DC90EC65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CDFF-A88C-4930-ABB4-2C2AAC28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D2447-D6D6-482D-B2D8-6A70315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5D749-3A7C-4433-A52D-B93BAD2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BFA9-CB59-4008-8036-FDD01678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3D089-4250-4733-B57D-907C0561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5302-8455-41BD-A723-C64985A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3CAE-A148-41E8-B452-E89AF39C0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98EAF-1A3C-4540-B376-9A204C2D1F3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3A653-B82C-4E3A-9E39-8A907C6D9C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DD005-7E7F-418C-9D34-7CEC1ECEC3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B5CA6-B05D-484A-A184-55A5DFDD11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DB97D-3C64-412C-AB7C-966B11F24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BD72-D3B4-4A55-AA4B-C73AA5F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FE978-AEF8-4405-9E2C-AA0B3E4A59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4AA33-B9DB-4A37-A727-8B266B9E58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56293-25EB-4112-9729-29F45D3117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96529-EB62-4C32-9B8A-5FB1552154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CF69B-5043-4D35-872E-47F0C02D73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7B77C-FD7C-494F-99E5-358E86DF83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7DDB6-6299-4085-B6D5-23FE5CF04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17833-2402-421D-B44C-DAAD8D1A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8D856-BEBD-40F8-A4B7-C631198D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6560-F49A-4131-9DAA-2484C532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C0C87-E1A2-42A4-AEF3-943E56D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A07B-7569-41D0-8642-9CC2E4A2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3AE30-AC98-45A3-A773-4B119F2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E317F-0A8C-4DC4-8BF1-9A5BC94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CFDB7-61F9-44D1-955F-D96676F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45C4F-5BC0-456D-93BC-9D27C49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3C124-0BBD-492E-8BBE-3A1B98046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B93A-D82A-4B57-A49F-89ECF3D89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976D-0280-423F-B591-A3D2DF5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4AB-441F-4153-A3A1-F1C7A0EE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C68-BC10-46A3-8C4B-7E97072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CED7-F616-435B-BFFA-B709DAF7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2AA6-3A0F-4D5E-9683-D8BFD421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C31-B1EE-41C9-BEB5-A86BEDE8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6F1-143A-4C37-AC38-6CA23F9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0BCF-7374-4CDE-8ACA-942D084A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2D2D-6E09-4A48-AE7B-4AFA2534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C968-7A0E-49EB-8DA7-4502365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FF3-3C95-4CDC-BB9B-19A56BD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14C-8D49-4453-A662-DF480AEF2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5FA8E-350E-4561-867D-CC73FEC9B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BA0EF-F9CD-415C-BE5C-0FF5730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85AC0-ACEE-48D7-ABAC-99781A6C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1176-A470-47DB-B884-36D86ECA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C8A9C-1BE7-4F2E-AFA8-4A1AF04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62290-285B-45C1-A07C-6D1AF8E7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E45F0-9CB6-44FF-90C8-33C0086D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9B264-FFCF-4083-909F-043CDAC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34BB9-09AA-4F67-BD21-51A5D050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06C4A-54BD-4885-9479-B96B42B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B3666-6A5C-4194-A014-D48FAFA4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EB29B-B807-40C7-8E0E-C2D835C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D2578-BC41-4723-99C3-6DF91503F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652F9-C7D9-423E-9815-AB9DCBD4C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FBFF-CB53-402E-B1BE-02A6A9ED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CFCFC-0482-499F-830E-D53B036A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1BBC9-6A29-4E74-8096-A802E563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1CE32-B0BA-4EB5-A73F-78E8711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6746F-FDF4-420A-90B3-D5885AB1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B4B58-92DB-4151-AA87-1A46FFF2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583D4-54A4-4F5F-8569-EA2BB036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01A2F-3078-4016-ABBD-B8B5866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C27C4-3D7B-48A8-91E0-68BE744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06E93-0C2E-43FC-9B00-A0075A33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550F8-D9FC-425A-B255-8B6BD9F0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842C-3463-4865-ACBC-31C846A5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2CCD3-2CD5-41C4-A6FA-DBFAE92AD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1796-BCD6-4A7B-B3D3-C7C7EF01A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4565-AB14-4452-B595-D8232C9A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E554-87F4-4065-8EA6-663E2C46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AFD3-9CAA-4217-BBE6-0D91C3EF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3D50-ED43-4177-B99B-6B1AEE0D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65C9-3562-4EEB-BFD6-BBA61C51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E778-D9FD-4087-ABFC-2269AF3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D625-D9B2-40E1-9CAD-EB25DEFA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41F2-D1BD-4221-9C9F-2CC3E389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5259-31F0-4E2E-A31F-87CE6AC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919B-58E7-44B2-BE45-331610A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E930-F076-4C74-971B-D43ABD1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073F-DEC0-49BA-881B-B0046F4CD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A7472-E854-478C-B953-C6F6F8311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A30E4-6862-4937-94FC-5F990B1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B3E1C-CF60-43BA-8CFC-8DB7343F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C95E9-5E36-40C3-B3E3-2463E05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717A9-F1FD-45E3-88D2-0012642F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2D447-9DD8-473E-80D9-2A301455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D9DCC-DE69-4B09-83A5-6E9F1DB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0B48-6AFF-423A-A72D-282F726B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E0AB8-D917-4946-8096-9878EE5F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5814E-F138-4942-ABDC-70BED29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C2607-7BAD-46EC-AF9F-35B3B29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CAC07-29A7-442B-90FF-CE2BD94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439FD-D106-4543-8A0D-9801D65FA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70544-4774-49D0-B7C3-09B9C5AA5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0CBA4-0762-4545-91BE-3DDFDC5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B0D7E-B096-41F1-AF71-E88D3D6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B8CF6-5DAD-48EA-B09A-B532DCA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C3B5C-A794-4CF4-83DB-07D2C8D2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655B-7BCD-4B66-A446-E3FC4D14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A89FB-447D-4839-BC27-CEC55E63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B9A9A-C320-47B8-964F-F5BFD6B0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F3581-08A9-46EB-82CA-5AD03FBA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74CB3-6E7F-4635-A88A-CCF837F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ED0264-A2A9-491B-AC0F-0854FF76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71BB5-2283-47C5-8287-EB4CB63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0BDF6-2A4F-4DC1-8681-6B2BCE310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0244-0022-42FE-9A57-8F376DBE7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6CAE-C789-42E1-9069-C3CB7068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938D-169D-47FE-B98E-7A012F2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82997-6DA6-46AB-9AB1-5F6E5416F01E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E2DC9-ED53-42D0-9A86-28CBC7E9326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7C5A-35B4-4C75-A313-0A8FCE0C249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3430-0161-454E-85DD-9425066B7AD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B5B4-C8F8-4716-8DEE-BE72EC1906B9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61065-06CC-4203-A562-87196741DDF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164DD-C3DA-472C-8452-7D85BA55658E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B5E9B-5C3D-446B-989F-79CB7EE1215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D311-852D-43BE-8536-F50B3E1E458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0C0B0-4799-4EAE-80C8-66A42F2D4BF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1ED40-FF9A-4DF6-B367-61984902E9F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AB776-7719-4493-80C0-7E2252DAB45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0CA7-E56B-4F89-9841-B49E5CCF3FCF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,  rules and logic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dditional encoding layer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:type(X,Y)  &amp;  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Z)  =&gt;  rdf:type(X,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Y(X,Z) &amp; 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ang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U)  =&gt;   rdf:type(X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Y(X,Z) &amp; 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domai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U)  =&gt;  rdf:type(Z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have to be encoded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in classical 1st order logic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rdf:type,Y)  &amp;  rdf(Y,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dfs:subClassOf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Z)  =&gt;  rdf(X,rdf:type,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Y,Z) &amp; rdf(Y,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ange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)  =&gt;   rdf(X,rdf:type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Y,Z) &amp; rdf(Y,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domain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)  =&gt;  rdf(Z,rdf:type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a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http://xx#121 ex:eesnimi "Jaan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Metainfo about the fact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imestamp: 10jaan2008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sestaja:peeter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aldusvaarsus:0.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 encoded as triples (invent object "13"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obje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http://xx#12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predicat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ex:eesni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subje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"Jaan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ex:timestamp   10jaan20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sisestaja      pe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ification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subject,Y) 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predicate,Z) 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object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Y,Z,U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OT provided in rdf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cardinality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constraints on properties, e.g., that a Person has exactly one biological fa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a given property (such as ex:hasAncestor) is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transitiv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, e.g., that if A ex:hasAncestor B, and B ex:hasAncestor C,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 ex:hasAncestor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a given property is a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unique identifier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(or key) for instances of a particular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two different classes (having different URIrefs) actually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represent the same class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two different instances (having different URIrefs) actually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represent the same individual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OT provided in rdf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constraints on the range or cardinality of a property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that depend on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he class of resource to which a property is applied, e.g., being able to say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-   for a soccer team the ex:hasPlayers property has 11 valu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-   for a basketball team the ex:hasPlayers property has 5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he ability to describe new classes in terms of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 combinations (e.g., unions and intersections)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of other classes, or to say that two classes are disjoint (i.e., that no resource is an instance of both clas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ays to extend rd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9640" y="1619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traditional rul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Current mainstream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RI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Rule Interchange Forma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Older favorite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RuleM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Rule Meta-Languag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A complex evolving standar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C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Common Logi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a specialised description-logic based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OW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(Web Ontology Languag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 and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W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WL and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 Sche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ree kinds of simple taxonomy rules added to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is a car, X is a vehicle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has a property profession, X is a person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has a property brother, value of the property is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“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irst (main)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MotorVehicle   rdf:type   rdfs: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things:companyCar   rdf:type   ex:V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Van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MotorVehic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964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ain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ame facts in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edicate calculus notatio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ex:MotorVehicle, rdfs:Cla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exthings:companyCar,ex:Van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subClassOf(ex:Van, ex:MotorVehicl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X,Y)  &amp;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Z)  =&gt;  rdf:type(X,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cond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   rdf:type     rdfs:Clas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rdf:type     rdf:Property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ran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Per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the f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1  ex:author  ex:haml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hould deriv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ex:author rdf:type  ex:Per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gically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Y(X,Z)  &amp;  rdfs: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an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U)  =&gt;  rdf:type(X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ird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Book     rdf:type      rdfs:Clas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rdf:type      rdf:Property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domai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Book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the f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1  ex:author  ex:haml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hould deriv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ex:hamlet  rdf:type  ex:Book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gically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Y(X,Z)  &amp;  rdfs: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omai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U)  =&gt;  rdf:type(Z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3-02-11T13:10:46Z</dcterms:modified>
  <cp:revision>114</cp:revision>
  <dc:subject/>
  <dc:title>RDF and schemaless databases: some notes</dc:title>
</cp:coreProperties>
</file>